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gif" ContentType="image/gif"/>
  <Override PartName="/ppt/media/image12.jpeg" ContentType="image/jpeg"/>
  <Override PartName="/ppt/media/image9.gif" ContentType="image/gif"/>
  <Override PartName="/ppt/media/image13.jpeg" ContentType="image/jpeg"/>
  <Override PartName="/ppt/media/image20.gif" ContentType="image/gif"/>
  <Override PartName="/ppt/media/image8.jpeg" ContentType="image/jpeg"/>
  <Override PartName="/ppt/media/image2.gif" ContentType="image/gif"/>
  <Override PartName="/ppt/media/image6.jpeg" ContentType="image/jpeg"/>
  <Override PartName="/ppt/media/image21.gif" ContentType="image/gif"/>
  <Override PartName="/ppt/media/image19.gif" ContentType="image/gif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7.jpeg" ContentType="image/jpeg"/>
  <Override PartName="/ppt/media/image4.jpeg" ContentType="image/jpeg"/>
  <Override PartName="/ppt/media/image5.jpeg" ContentType="image/jpeg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CBBB-71A3-4F6A-97C8-D5581B725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42A7-9A7F-4691-BA47-9E3AD445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5E5F-F8B7-43DB-AC1B-B551BC204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8782-AE82-4211-8C7D-4C333EF53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CF91C-FF94-427B-A4DE-7631B572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9AEF5-9FE2-43CA-9079-4033AF012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EFE7-5D1F-479F-9F62-DB7118042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32A6E-4E40-44AC-9110-A283B180E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E716-E1DC-499E-AE2D-7B189E745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D6569-C930-4BF7-BBDB-565B27634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E38B0-E60C-40B8-83F2-6937161A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9C340-8ABC-4A84-A30E-D7EBF7F6E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6662D-0CA7-4DF8-9945-923011487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C4F5F-6EFE-426E-8A78-6013B049A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C37A0-3382-42CD-B928-A848D7772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14F53-CBB6-4D85-8901-858FCF4D8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351B-E08A-406D-ABAF-627B6590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532-D5A2-4C91-A486-B944E958B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AC74-1072-430D-A2B4-6E91D8645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75861-1EAF-40BC-91FB-C3A8D95E9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1AC3-F170-4765-964F-67A4CFBF2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67B89-4CEB-4FBF-819D-CA405595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1D4E0-CAF2-4B4E-B39D-DEC756C27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796B5-C219-4FFA-A0A8-06CD684C0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AA723-F9EC-4C37-BECE-FE7BDA9064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2A247-5580-4A8F-BEB5-76C505438E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hyperlink" Target="http://900igr.net/" TargetMode="External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9.gi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228600" y="1371600"/>
            <a:ext cx="8915400" cy="358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почему солнце светит днём , а 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звёзды - ночью?</a:t>
            </a:r>
            <a:endParaRPr b="0" lang="en-US" sz="4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4" name="">
            <a:hlinkClick r:id="rId3"/>
          </p:cNvPr>
          <p:cNvSpPr/>
          <p:nvPr/>
        </p:nvSpPr>
        <p:spPr>
          <a:xfrm>
            <a:off x="3924360" y="6477120"/>
            <a:ext cx="129528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dfdfdf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365400" y="500040"/>
            <a:ext cx="4420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a4"/>
                </a:solidFill>
                <a:latin typeface="Arial"/>
              </a:rPr>
              <a:t>Звезда Альдебаран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519120" y="423720"/>
            <a:ext cx="30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Регу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441720" y="728640"/>
            <a:ext cx="336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Звезда Сириус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41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1676520" y="0"/>
            <a:ext cx="60958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озвездие ль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62120" y="2133720"/>
            <a:ext cx="6933960" cy="4214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762120" y="228600"/>
            <a:ext cx="7391160" cy="157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озвездие близнецов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- это огромный пылающий шар, это тоже звезда, которая нам кажется большой и яркой, т.к. она расположена ближе к Земле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1066680" y="1828800"/>
            <a:ext cx="64771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0"/>
            <a:ext cx="85341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 очень горячее. Без него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в нашем космическом доме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ечной системе- темно 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холодно. Ученые, которые изучают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лнце, говорят, что его поверхность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напоминает кипящую 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у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Температура такой 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«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каши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»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-6000 гр.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743200" y="4191120"/>
            <a:ext cx="3276720" cy="236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762120" y="0"/>
            <a:ext cx="746748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итог урока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3" name=""/>
          <p:cNvSpPr/>
          <p:nvPr/>
        </p:nvSpPr>
        <p:spPr>
          <a:xfrm>
            <a:off x="228600" y="286236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нового узнали о Солнце и звёздах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90160" y="4233960"/>
            <a:ext cx="876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Что вам понравилось сегодня на уроке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62120" y="3276720"/>
            <a:ext cx="3504960" cy="33526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2133720" y="0"/>
            <a:ext cx="6248160" cy="235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спасибо за урок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2819520"/>
            <a:ext cx="9144000" cy="403848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 txBox="1"/>
          <p:nvPr/>
        </p:nvSpPr>
        <p:spPr>
          <a:xfrm>
            <a:off x="609480" y="228600"/>
            <a:ext cx="75438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утешествие в космос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0" y="3124080"/>
            <a:ext cx="2438280" cy="3733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89080" y="1033560"/>
            <a:ext cx="783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Скафандр-это специальная одежд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a4"/>
                </a:solidFill>
                <a:latin typeface="Arial"/>
              </a:rPr>
              <a:t>для космонавтов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304920" y="3581280"/>
            <a:ext cx="406404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09480" y="1752480"/>
            <a:ext cx="2362320" cy="243864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29200" y="1828800"/>
            <a:ext cx="2819520" cy="2895480"/>
          </a:xfrm>
          <a:prstGeom prst="ellipse">
            <a:avLst/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4648320"/>
            <a:ext cx="3733920" cy="1981080"/>
          </a:xfrm>
          <a:prstGeom prst="rect">
            <a:avLst/>
          </a:prstGeom>
          <a:solidFill>
            <a:srgbClr val="ff33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76920" y="4952880"/>
            <a:ext cx="3504960" cy="1676520"/>
          </a:xfrm>
          <a:prstGeom prst="triangle">
            <a:avLst>
              <a:gd name="adj" fmla="val 50000"/>
            </a:avLst>
          </a:prstGeom>
          <a:solidFill>
            <a:srgbClr val="ff33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12760" y="195120"/>
            <a:ext cx="855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Как вы думаете какую форму имеют звёз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89080" y="320760"/>
            <a:ext cx="8854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лнце всходит, освещает землю, начинает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ень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3"/>
          <a:stretch/>
        </p:blipFill>
        <p:spPr>
          <a:xfrm>
            <a:off x="1981080" y="2362320"/>
            <a:ext cx="55627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0" y="45720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А когда заходит солнце, начинается ночь. Ночью светят луна и звёзды, но их свет слабее</a:t>
            </a: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a4"/>
                </a:solidFill>
                <a:latin typeface="Arial"/>
              </a:rPr>
              <a:t>солнц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ame</cp:lastModifiedBy>
  <dcterms:modified xsi:type="dcterms:W3CDTF">2010-09-23T12:05:57Z</dcterms:modified>
  <cp:revision>9</cp:revision>
  <dc:subject/>
  <dc:title>Звезда Солнц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660a000000000001024140</vt:lpwstr>
  </property>
  <property fmtid="{D5CDD505-2E9C-101B-9397-08002B2CF9AE}" pid="3" name="Version">
    <vt:r8>1</vt:r8>
  </property>
</Properties>
</file>